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9A7-7FC5-4D8E-9AE5-1615C5E6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DB3-E580-46D4-B7EA-1B7F8179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3EE-478C-4883-ACB5-BD3B4BAE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269-2A74-4BB3-AB44-59E2F5A7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29B-CA56-41DF-8282-B45ED0F8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E15-8128-4619-A3C5-F01DBDD7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9F0-FF5C-40B7-B11F-9789C538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AA9-65D4-494F-9360-7B8D484E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B91-FCA7-49EB-99B0-D6F132EE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810-A655-49A4-A4D1-AF365AE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0B8-C931-4107-B4AB-95D048C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A49-9A3D-4A24-B638-EDEF9C3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BE7720-EE65-48ED-BCD7-E4DF5C2BE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A95-5538-47D4-9E40-6FE84855EF43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A06-E1E0-4F2E-81BB-0B479F6B6A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5D9-5EB9-484E-9EC4-565288D2399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1676520" y="1219320"/>
                <a:ext cx="62769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1981080" y="3429000"/>
                <a:ext cx="6620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1981080" y="426708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2" name=""/>
          <p:cNvSpPr/>
          <p:nvPr/>
        </p:nvSpPr>
        <p:spPr>
          <a:xfrm>
            <a:off x="914400" y="3032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143000" y="228600"/>
            <a:ext cx="7696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Regulaciones e incentiv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1981080" y="5105520"/>
                <a:ext cx="3378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2057400" y="586728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6" name=""/>
          <p:cNvSpPr/>
          <p:nvPr/>
        </p:nvSpPr>
        <p:spPr>
          <a:xfrm>
            <a:off x="7696080" y="2438280"/>
            <a:ext cx="1143000" cy="609840"/>
          </a:xfrm>
          <a:prstGeom prst="wedgeRectCallout">
            <a:avLst>
              <a:gd name="adj1" fmla="val -160416"/>
              <a:gd name="adj2" fmla="val -12057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621560" y="2438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905600" y="4572000"/>
            <a:ext cx="1143000" cy="609480"/>
          </a:xfrm>
          <a:prstGeom prst="wedgeRectCallout">
            <a:avLst>
              <a:gd name="adj1" fmla="val -93750"/>
              <a:gd name="adj2" fmla="val -18932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831080" y="45720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5943600"/>
            <a:ext cx="2590920" cy="380880"/>
          </a:xfrm>
          <a:prstGeom prst="wedgeRectCallout">
            <a:avLst>
              <a:gd name="adj1" fmla="val -74634"/>
              <a:gd name="adj2" fmla="val 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482360" y="59072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497-103D-4DC0-86B3-2D772B41F57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1827720" y="259092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980360" y="274320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132640" y="289548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6633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284920" y="304812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437560" y="320040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589840" y="335268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d49fff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742120" y="350532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8cf4ea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894760" y="365760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047040" y="380988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199320" y="396252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cc00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43040" y="639360"/>
            <a:ext cx="64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b7a5"/>
                </a:solidFill>
                <a:latin typeface="Times New Roman"/>
              </a:rPr>
              <a:t>VIII. La Aplicación del Mod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6A8-4097-4425-88E6-EC3BF01E0B6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5" name=""/>
          <p:cNvGraphicFramePr/>
          <p:nvPr/>
        </p:nvGraphicFramePr>
        <p:xfrm>
          <a:off x="6629400" y="1600200"/>
          <a:ext cx="2513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600200"/>
                    <a:ext cx="2513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¿Para qué sirve la modelación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63104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Analizar posibles soluciones a los problemas de la ciudad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Realizar evaluaciones costo/beneficio y de opración de los proyectos de transporte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Predecir funcionamiento de la ciudad asociado a regulaciones e incentivos a US&amp;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Definir regulaciones/incentivos óptimos en base a objetivos /meta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99B-1F09-4383-BB3F-3010F85A299D}" type="slidenum">
              <a:t>103</a:t>
            </a:fld>
          </a:p>
        </p:txBody>
      </p:sp>
    </p:spTree>
  </p:cSld>
  <p:transition spd="med" advTm="31000"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"/>
          <p:cNvSpPr/>
          <p:nvPr/>
        </p:nvSpPr>
        <p:spPr>
          <a:xfrm>
            <a:off x="974880" y="1050840"/>
            <a:ext cx="189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050480" y="2270160"/>
            <a:ext cx="186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049760" y="34894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050840" y="463248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050840" y="58514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66408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6408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66408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67020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594240" y="5727600"/>
            <a:ext cx="88884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71772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64104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4104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64176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709308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01676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07076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09308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01676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94044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070760" y="3489480"/>
            <a:ext cx="65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99444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91848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96252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96252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96252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03848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39152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9152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39152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9152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4266720" y="2438280"/>
            <a:ext cx="26672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426708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 flipH="1">
            <a:off x="4419720" y="49528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035680" y="920880"/>
            <a:ext cx="135864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05512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041800" y="5803920"/>
            <a:ext cx="134640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01876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49568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400800" y="617220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640044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>
            <a:off x="426672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0F1-3D53-47F9-84CD-267171294D8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8256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8256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8256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8321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7558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8792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8026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8029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8036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25464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17868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2326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25464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17868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102360" y="5797440"/>
            <a:ext cx="901800" cy="6969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2326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563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08004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240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1240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1240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2004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5530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5530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5530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5530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34290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34290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3580920" y="4952880"/>
            <a:ext cx="26672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1972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2170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2037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41803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6576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5627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55623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34286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280160" y="46080"/>
            <a:ext cx="325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Tarificación 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473960" y="1149480"/>
            <a:ext cx="1511280" cy="3949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7467480" y="1371600"/>
            <a:ext cx="1524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enor uso de a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enor vi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Reducción contamina-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iudad más den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EFA-595A-4DC9-823C-BC5BF3521A1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0542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0542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0542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0607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9844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1078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0312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0315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0322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48324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40728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4612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48324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407280" y="4654440"/>
            <a:ext cx="82548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33096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4612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3849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38496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526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3526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781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7816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7816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36576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36576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3809520" y="4952880"/>
            <a:ext cx="25909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4258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4456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4323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4089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57913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57909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6572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278720" y="46080"/>
            <a:ext cx="558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Subsidio transporte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778880" y="1530360"/>
            <a:ext cx="1206360" cy="425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772400" y="1676520"/>
            <a:ext cx="12193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umenta uso del mo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fecta estratos bajo ingre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nsifi-cación centro y corre-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D8A-6CD8-43C3-BFDB-E04BF336261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0542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0542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0542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0607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9844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1078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0312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0315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0322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48324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40728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4612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483240" y="3359160"/>
            <a:ext cx="596880" cy="6174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40728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33096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4612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3849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38496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3526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3526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781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7816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7816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36576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36576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3809520" y="4952880"/>
            <a:ext cx="25909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4258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4456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4323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4089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7913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57909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H="1">
            <a:off x="36572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279440" y="46080"/>
            <a:ext cx="6303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Localización mínimo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778880" y="1530360"/>
            <a:ext cx="1206360" cy="425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7772400" y="1676520"/>
            <a:ext cx="12193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Viajes más cor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Usos de modos flexi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ayor tiempo disponi-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A3D-063D-4B70-A8AE-18BC3517B1B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0542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0542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0542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0607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9844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078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0312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0315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0322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48324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07280" y="2139840"/>
            <a:ext cx="749160" cy="6732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4612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48324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40728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33096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4612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3849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38496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3526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3526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781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7816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7816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>
            <a:off x="36576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36576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3809520" y="4952880"/>
            <a:ext cx="25909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4258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4456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4323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4089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7913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57909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H="1">
            <a:off x="36572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279800" y="46080"/>
            <a:ext cx="445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Comunicación rem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7778880" y="1530360"/>
            <a:ext cx="1206360" cy="47880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7772400" y="1676520"/>
            <a:ext cx="1219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enor número de viaj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ncade-namiento de viaj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ás tiempo disponi-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enor gasto trans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3ED-427A-4EA4-9797-39F99986FE1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0542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0542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0542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607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9844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1078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312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0315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0322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483240" y="920880"/>
            <a:ext cx="596880" cy="5968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40728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4612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48324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0728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33096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4612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3849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38496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3526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3526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781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7816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7816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36576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36576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3809520" y="4952880"/>
            <a:ext cx="25909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4258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4456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4323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4089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7913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H="1">
            <a:off x="57909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>
            <a:off x="36572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280160" y="46080"/>
            <a:ext cx="519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Incentivos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778880" y="1530360"/>
            <a:ext cx="1206360" cy="5168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772400" y="1676520"/>
            <a:ext cx="12193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na-lización de co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ns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Uso mix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ptimización uso infrae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fectos 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DDF-EFED-4459-824F-54EBBFD11E1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08A-02C5-4D23-AD9D-BD9C6D2251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6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8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0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2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273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2897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2898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2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2903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7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2908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2913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15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2916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2918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34C-4997-4544-B27E-D8C12BBC19B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33"/>
            </a:gs>
            <a:gs pos="100000">
              <a:srgbClr val="0082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3B1477-A4B6-499A-8C4C-2B68EEE20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advTm="1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330-8674-42B4-8A7C-6B405A381511}" type="slidenum">
              <a:t>12</a:t>
            </a:fld>
          </a:p>
        </p:txBody>
      </p:sp>
    </p:spTree>
  </p:cSld>
  <p:transition spd="med" advTm="1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223-1C60-45F7-8C69-959615B80F00}" type="slidenum">
              <a:t>13</a:t>
            </a:fld>
          </a:p>
        </p:txBody>
      </p:sp>
    </p:spTree>
  </p:cSld>
  <p:transition spd="med" advTm="1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B92-4121-48C4-A3C6-38897F0F93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119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24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28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33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37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42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43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47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52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69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DAB-E329-4535-B9C4-DD88C2B2A9B1}" type="slidenum">
              <a:t>15</a:t>
            </a:fld>
          </a:p>
        </p:txBody>
      </p:sp>
    </p:spTree>
  </p:cSld>
  <p:transition spd="med"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61D-E1DF-4E0F-B07B-CC18B08C6205}" type="slidenum">
              <a:t>16</a:t>
            </a:fld>
          </a:p>
        </p:txBody>
      </p:sp>
    </p:spTree>
  </p:cSld>
  <p:transition spd="med" advTm="1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205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210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214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19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23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51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55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59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63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F0B-C383-4D3C-AD12-796A59E870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15F-F5CF-49B8-A985-AF547B22C075}" type="slidenum">
              <a:t>18</a:t>
            </a:fld>
          </a:p>
        </p:txBody>
      </p:sp>
    </p:spTree>
  </p:cSld>
  <p:transition spd="med" advTm="1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78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83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87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92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96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314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318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22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26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81A-2988-4225-A69B-7A17231241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C37-EBCA-43D6-8AAC-76450595C8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est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BEF-7B3C-4861-BA28-D987D5342DE5}" type="slidenum">
              <a:t>20</a:t>
            </a:fld>
          </a:p>
        </p:txBody>
      </p:sp>
    </p:spTree>
  </p:cSld>
  <p:transition spd="med" advTm="1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65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66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73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83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84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15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416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417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1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42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45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0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71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72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80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4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85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0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511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515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18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1BD-E6B5-4A87-8DD1-47D5EB3D7714}" type="slidenum">
              <a:t>21</a:t>
            </a:fld>
          </a:p>
        </p:txBody>
      </p:sp>
    </p:spTree>
  </p:cSld>
  <p:transition advTm="30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25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32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39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46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53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60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67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76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63C-1935-4015-A12C-71B1A16FC6F7}" type="slidenum">
              <a:t>22</a:t>
            </a:fld>
          </a:p>
        </p:txBody>
      </p:sp>
    </p:spTree>
  </p:cSld>
  <p:transition advTm="2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93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217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218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23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28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33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58D-843D-4BAF-85C4-45F42A169B86}" type="slidenum">
              <a:t>23</a:t>
            </a:fld>
          </a:p>
        </p:txBody>
      </p:sp>
    </p:spTree>
  </p:cSld>
  <p:transition advTm="31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B5C-B50A-4FBE-A43B-D1CF4F2ACF94}" type="slidenum">
              <a:t>24</a:t>
            </a:fld>
          </a:p>
        </p:txBody>
      </p:sp>
    </p:spTree>
  </p:cSld>
  <p:transition advTm="31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49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58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60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2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C80-3197-4468-939A-F126FB800CC7}" type="slidenum">
              <a:t>25</a:t>
            </a:fld>
          </a:p>
        </p:txBody>
      </p:sp>
    </p:spTree>
  </p:cSld>
  <p:transition advTm="31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842-20A3-45C9-A31D-87E0CD9C7F81}" type="slidenum">
              <a:t>26</a:t>
            </a:fld>
          </a:p>
        </p:txBody>
      </p:sp>
    </p:spTree>
  </p:cSld>
  <p:transition spd="med" advTm="1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255-B94B-4ACB-8A1A-E8CA89C55E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21B-3703-4A09-A48B-5FA53E9681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DC2-672E-417E-9CF9-CC2AFA76BF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415-9998-4256-9F42-AAA847BCAF77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66840" y="4479840"/>
            <a:ext cx="2681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 : 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264-D948-41F7-925A-9D65DFEF3C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353600" y="50328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5636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96040" y="360216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7F9-7F73-4678-B89C-E3C3AACA62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350000" y="503280"/>
            <a:ext cx="716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B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C45-3379-4E0A-90AA-0070D26616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13E-6493-40FA-9287-F463B0B6FC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E8F-AB84-4678-A13F-AFB897039037}" type="slidenum">
              <a:t>34</a:t>
            </a:fld>
          </a:p>
        </p:txBody>
      </p:sp>
    </p:spTree>
  </p:cSld>
  <p:transition spd="med" advTm="16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2681B0-F9FF-4A80-B9FD-708B21E3D98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9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2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E09931-2383-4388-B2AB-AEAA97622C9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br>
              <a:rPr sz="44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790640" y="3962520"/>
                <a:ext cx="626580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1371600" y="1905120"/>
                <a:ext cx="41799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1936800" y="5410080"/>
                <a:ext cx="49212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1" name=""/>
          <p:cNvSpPr/>
          <p:nvPr/>
        </p:nvSpPr>
        <p:spPr>
          <a:xfrm>
            <a:off x="5867280" y="1371600"/>
            <a:ext cx="1905120" cy="762120"/>
          </a:xfrm>
          <a:prstGeom prst="wedgeRectCallout">
            <a:avLst>
              <a:gd name="adj1" fmla="val -135166"/>
              <a:gd name="adj2" fmla="val 88125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505320"/>
            <a:ext cx="16761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81680" y="2590920"/>
            <a:ext cx="1219320" cy="6858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240240" y="2325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256080" y="2971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21592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BE4D28-6C46-47D7-8AA6-0E559B4019B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867280" y="1828800"/>
                <a:ext cx="2654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U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7743DA-F9E6-4CF5-B897-851E0EA0F5A2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6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C76FB7-96D3-44E2-B043-78AF4F3E475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2286000" y="3505320"/>
                <a:ext cx="48132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tu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19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203480" y="49165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Agregando sobre el </a:t>
            </a: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patrón de viajes</a:t>
            </a: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 realizados por el hogar se obtiene una medida del beneficio neto del ho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9E0-15C3-4FF6-933B-7C6FF30309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F40B3B-5AD2-4F83-8766-19E08BAB10F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3808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30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31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32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438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4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F41EF9-E793-4C0B-9B53-5DB630087876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3660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4565520" y="1295280"/>
                <a:ext cx="2749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6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457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464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465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471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7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479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3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484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71C593-EBB1-4EB9-BD51-82EA33E7376F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2681280" y="1109520"/>
                <a:ext cx="19224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2716200" y="2678040"/>
                <a:ext cx="18748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840040" y="4309920"/>
                <a:ext cx="37036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498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499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00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3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4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28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29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7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538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9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540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2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2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555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7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72A-3A98-443D-9782-3B57C33F678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l comportamiento microeconómico del consumid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121-83D2-4AC4-B0CE-477002816D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5111640" y="82440"/>
            <a:ext cx="3721320" cy="18925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Veamos el mecanismo de localización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7" name=""/>
          <p:cNvGraphicFramePr/>
          <p:nvPr/>
        </p:nvGraphicFramePr>
        <p:xfrm>
          <a:off x="5175360" y="2232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5360" y="2232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9" name=""/>
          <p:cNvSpPr/>
          <p:nvPr/>
        </p:nvSpPr>
        <p:spPr>
          <a:xfrm>
            <a:off x="6553080" y="15238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title"/>
          </p:nvPr>
        </p:nvSpPr>
        <p:spPr>
          <a:xfrm>
            <a:off x="5409720" y="380520"/>
            <a:ext cx="35053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6633"/>
                </a:solidFill>
                <a:latin typeface="Times New Roman"/>
              </a:rPr>
              <a:t>III. LOCALIZACIÓN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6633"/>
                </a:solidFill>
                <a:latin typeface="Times New Roman"/>
              </a:rPr>
              <a:t>URBA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D02-DF27-4F1A-81F9-9B0C097017CD}" type="slidenum">
              <a:t>45</a:t>
            </a:fld>
          </a:p>
        </p:txBody>
      </p:sp>
    </p:spTree>
  </p:cSld>
  <p:transition spd="med" advTm="16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206880" y="1378080"/>
            <a:ext cx="2501640" cy="50616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1576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1580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035160" y="318960"/>
            <a:ext cx="27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126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1260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D73-6356-4B96-AF1B-F6EEEC070D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104480" y="38052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33"/>
                </a:solidFill>
                <a:latin typeface="Times New Roman"/>
              </a:rPr>
              <a:t>CONCEPTOS BÁSICOS EN LOCALIZACIÓN URBAN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localización define el escenario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ción de cuasi-uni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s externas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nfoques de model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31B-41A9-417B-8C5D-31DF069A479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II.1 Noción de cuasi-unic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uelo urbano es cuasi-único pues no se puede reproducir el ento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calidad del entorno es producto de las desiciones de los de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hay costo de producción (o es irrelevante), igual que las obras de ar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09C-142F-4F40-B7AA-5B4020479BE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95000" y="609120"/>
            <a:ext cx="8496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8cf4ea"/>
                </a:solidFill>
                <a:latin typeface="Times New Roman"/>
              </a:rPr>
              <a:t>III.2 Economías externas de localización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localización de una actividad depende de la localización de los demás (entorn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localización de los demás se afecta por la localización de una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A2B-6BD7-4AC8-B5B8-C9F8D6E1D10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F1A-131D-49B0-8053-7623A886A3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II.3 Ren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valor (de uso) del suelo se construye como el valor de la máxima disposición a pagar; igual que en un rem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sto incluye complejos procesos de especulación (que existe por defini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18A-6345-48BC-833F-EC126EE5D3F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II.5 Enfoques de model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352160" y="27432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nálisis de relaciones individuales/ tendencia del desarrollo agreg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ratamiento explícito de la renta (cuasi unicidad)/ supuesto de bien “norm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13F-2769-4F0C-9B75-963FD4A2DD5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380880" y="2895480"/>
            <a:ext cx="769644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CISIONES INDIVIDUALES PERO DEPENDIENTE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XTERNALIDADES DE LOCALIZAC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09480" y="3886200"/>
            <a:ext cx="85345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i)  Depende de aglomer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ii)  Accesibilidad a otras actividades y atractividad de otras activida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iii)  Características Geográficas y Socioeconómic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5334120"/>
            <a:ext cx="6629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CISIONES RACIONALES  Máx </a:t>
            </a:r>
            <a:r>
              <a:rPr b="0" i="1" lang="es-ES" sz="23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 individu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28600" y="1905120"/>
            <a:ext cx="891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6200" indent="-106200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STUDIAR EL COMPORTAMIENTO DE LOS CONSUMIDORES EN EL MODELO DEL SUELO URBANO (hogares y firma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33520" y="45720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III.5 </a:t>
            </a:r>
            <a:r>
              <a:rPr b="1" lang="es-ES" sz="2800" spc="-1" strike="noStrike">
                <a:solidFill>
                  <a:srgbClr val="8cf4ea"/>
                </a:solidFill>
                <a:latin typeface="Times New Roman"/>
              </a:rPr>
              <a:t>MODELO DE COMPORTAMIENTO DE LA DEMANDA.  OFERTA CONOC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EFE-988C-4375-84DE-0249691A58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Vamos... 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odelar est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7D7-E32F-4A98-AC61-E70A059B10A8}" type="slidenum">
              <a:t>53</a:t>
            </a:fld>
          </a:p>
        </p:txBody>
      </p:sp>
    </p:spTree>
  </p:cSld>
  <p:transition spd="med" advTm="16000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a 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(a)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utilidad que extrae el agente 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 realizar activ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ctividad se describe po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lidad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q(x,z)        x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,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empo dedicado </a:t>
            </a:r>
            <a:r>
              <a:rPr b="0" i="1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=f T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recuencia y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ambiente es hetereogéneo: mapa del uso del suelo, acc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734-FC85-431B-ABD8-73CC8217EB1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1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150-2FCA-4D74-8E6D-DF28E46CB1D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6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0B8-6CDD-4949-902D-6ECDB474E8B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5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Un momentit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Explíqueme esto de la disposición a paga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038-7B4E-43BB-B9CF-FE46B2F556E4}" type="slidenum">
              <a:t>57</a:t>
            </a:fld>
          </a:p>
        </p:txBody>
      </p:sp>
    </p:spTree>
  </p:cSld>
  <p:transition spd="med" advTm="16000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5410080" y="1600200"/>
            <a:ext cx="342900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La DP del hogar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a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  U(x,z;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.a.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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x + p(z) =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 utilidad indirecta V es:   V(I-p, P, z;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virtiendo V para U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---&gt;  Y-p(z) = V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(P, z; U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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P(z) = Y - V</a:t>
            </a:r>
            <a:r>
              <a:rPr b="1" lang="es-CL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(P, z; U</a:t>
            </a:r>
            <a:r>
              <a:rPr b="1" lang="es-C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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 el máximo valor que el hogar está dispuesto a pagar para obtener un nivel de utilidad U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, si los precios son P y dispone de un ingreso Y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11240" y="2362320"/>
            <a:ext cx="257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4495680" y="1441080"/>
            <a:ext cx="0" cy="9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5791320" y="167652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AA9-17DF-4A10-B673-CF70DDE0B5A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Familia de curvas disposición a pagar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676520" y="14540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82640" y="51814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9034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817200" y="124452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880720" y="471816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718800" y="4794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475160" y="4870440"/>
            <a:ext cx="56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103200" y="52833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198080" y="3530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35440" y="3360600"/>
            <a:ext cx="3643920" cy="273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40360" y="3817800"/>
            <a:ext cx="272952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-679320" y="2903400"/>
            <a:ext cx="532080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352680" y="37400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670040" y="3733920"/>
            <a:ext cx="16891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F99-7656-414D-B17C-D1B5BA4FB8A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DDE-5601-4813-B425-D1251254A3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l equilibrio del hogar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676520" y="14540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682640" y="51814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160720" y="-1879560"/>
            <a:ext cx="8178120" cy="650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303960" y="4368960"/>
            <a:ext cx="646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(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9034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822960" y="124452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,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880720" y="471816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718800" y="4794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475160" y="4870440"/>
            <a:ext cx="56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403640" y="5877000"/>
            <a:ext cx="633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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quilibrio:  donde DP es tangente a p(z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108960" y="528336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203840" y="353052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7360" y="3429000"/>
            <a:ext cx="364464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40360" y="3817800"/>
            <a:ext cx="272952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-679320" y="2903400"/>
            <a:ext cx="532080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352680" y="37400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1670040" y="3733920"/>
            <a:ext cx="16891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585-0EC9-40CA-88A8-06924303B35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l equilibrio residencial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676520" y="16826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682640" y="54100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81320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46640" y="147312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,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rot="60000">
            <a:off x="2618640" y="564480"/>
            <a:ext cx="5625720" cy="455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rot="300000">
            <a:off x="2942280" y="-127800"/>
            <a:ext cx="4101480" cy="54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rot="120000">
            <a:off x="1777680" y="2819880"/>
            <a:ext cx="806436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852520" y="47181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547600" y="502272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709520" y="51753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352680" y="4425840"/>
            <a:ext cx="0" cy="978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886200" y="473076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682640" y="5638680"/>
            <a:ext cx="1663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359160" y="563868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892680" y="5638680"/>
            <a:ext cx="2273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338920" y="5664240"/>
            <a:ext cx="265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h1              h2            h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B21-5725-4C62-AD06-1AE0883FCB4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E3C-21F5-4EFA-8A40-3CEEA83B376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2" name="PlaceHolder 1"/>
          <p:cNvSpPr>
            <a:spLocks noGrp="1"/>
          </p:cNvSpPr>
          <p:nvPr>
            <p:ph/>
          </p:nvPr>
        </p:nvSpPr>
        <p:spPr>
          <a:xfrm>
            <a:off x="776160" y="1066320"/>
            <a:ext cx="37958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Y de que me puede servir la disposición a paga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6DD-7C45-4517-BA50-019E7D2C268D}" type="slidenum">
              <a:t>63</a:t>
            </a:fld>
          </a:p>
        </p:txBody>
      </p:sp>
    </p:spTree>
  </p:cSld>
  <p:transition spd="med" advTm="16000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7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85C-EF5F-4CF2-BEEC-58F1293CA01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F8C-6F01-432B-A806-425AE8C3797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62120" y="37339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6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733920" y="4540320"/>
            <a:ext cx="5135400" cy="1904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4038480" y="5302080"/>
                <a:ext cx="48006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4089240" y="4419720"/>
                <a:ext cx="3073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0" name=""/>
          <p:cNvSpPr/>
          <p:nvPr/>
        </p:nvSpPr>
        <p:spPr>
          <a:xfrm>
            <a:off x="6553080" y="3429000"/>
            <a:ext cx="2286000" cy="685800"/>
          </a:xfrm>
          <a:prstGeom prst="wedgeRectCallout">
            <a:avLst>
              <a:gd name="adj1" fmla="val -35347"/>
              <a:gd name="adj2" fmla="val 125000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99"/>
                </a:solidFill>
                <a:latin typeface="Arial"/>
              </a:rPr>
              <a:t>Especul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B8B-4B50-47DF-B4F7-FD0327D8C0E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0" name=""/>
              <p:cNvSpPr txBox="1"/>
              <p:nvPr/>
            </p:nvSpPr>
            <p:spPr>
              <a:xfrm>
                <a:off x="4773600" y="1066680"/>
                <a:ext cx="4157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1" name=""/>
              <p:cNvSpPr txBox="1"/>
              <p:nvPr/>
            </p:nvSpPr>
            <p:spPr>
              <a:xfrm>
                <a:off x="1062000" y="2940120"/>
                <a:ext cx="68104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2" name=""/>
              <p:cNvSpPr txBox="1"/>
              <p:nvPr/>
            </p:nvSpPr>
            <p:spPr>
              <a:xfrm>
                <a:off x="4024440" y="4664160"/>
                <a:ext cx="467352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281-DD3A-4629-BE57-2337FDC76EF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5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6" name=""/>
              <p:cNvSpPr txBox="1"/>
              <p:nvPr/>
            </p:nvSpPr>
            <p:spPr>
              <a:xfrm>
                <a:off x="2819520" y="3124080"/>
                <a:ext cx="41259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7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250-ED3B-4DF2-82D9-D284EFB83C6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A17-32DD-4117-96A7-40EED2DE2324}" type="slidenum">
              <a:t>69</a:t>
            </a:fld>
          </a:p>
        </p:txBody>
      </p:sp>
    </p:spTree>
  </p:cSld>
  <p:transition spd="med" advTm="1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229-4F55-400C-B0B2-6038F921D4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C5F-3418-4D5A-8CE5-15234318822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F88-22CF-4527-91F4-7A77CBAC51D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3AD-F733-4C97-A27A-009247032ED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) - w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- w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&gt;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- w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1862280" y="3809880"/>
                <a:ext cx="4655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A68-93AE-46F8-823E-889B3EAD757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1238400" y="3962520"/>
                <a:ext cx="727704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ECB-B573-451C-A562-A4D7D24C3DF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986280" y="2414520"/>
                <a:ext cx="3303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529080" y="3429000"/>
                <a:ext cx="4448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2460600" y="5410080"/>
                <a:ext cx="403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E53-A8B0-4044-8E15-8EA4C6DCBB26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836640" y="1600200"/>
                <a:ext cx="7927920" cy="21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4" name=""/>
          <p:cNvSpPr/>
          <p:nvPr/>
        </p:nvSpPr>
        <p:spPr>
          <a:xfrm>
            <a:off x="2040480" y="3886200"/>
            <a:ext cx="567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w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terminís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1B8-B2BB-471D-825F-19E8D9F168DD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6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8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D05-0059-46F0-9847-E6103C9D3FC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5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272-DF8C-4CA1-A9B5-BA35301F611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Y que rol tiene la oferta inmobiliaria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   </a:t>
            </a: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Ningun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09F-03A6-459B-A77D-F076969BB2A9}" type="slidenum">
              <a:t>79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DC5-A2C1-472B-BDB0-79E6C4240F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151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OFERTA</a:t>
            </a:r>
            <a:br>
              <a:rPr sz="3200"/>
            </a:b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Demanda Conocida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6200" indent="-106200">
              <a:lnSpc>
                <a:spcPct val="110000"/>
              </a:lnSpc>
              <a:spcBef>
                <a:spcPts val="4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ARIOS AGENTES PRODUC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ueño de la tier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ador de suelo urbanizab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ructor de viviendas y otros edif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6200" indent="-106200">
              <a:lnSpc>
                <a:spcPct val="110000"/>
              </a:lnSpc>
              <a:spcBef>
                <a:spcPts val="4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XIMIZADORES DE PRO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6200" indent="-106200">
              <a:lnSpc>
                <a:spcPct val="11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RCADO COMPETENCIA IMPERFE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567-DFB0-43CD-82D3-BD97CB7BC85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0" name=""/>
          <p:cNvGraphicFramePr/>
          <p:nvPr/>
        </p:nvGraphicFramePr>
        <p:xfrm>
          <a:off x="1674720" y="-836640"/>
          <a:ext cx="6175440" cy="803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-836640"/>
                    <a:ext cx="6175440" cy="803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3EC-879C-4293-A527-5B2E92907CA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380880" y="1523880"/>
            <a:ext cx="8458200" cy="4876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0880" y="685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cf4ea"/>
                </a:solidFill>
                <a:latin typeface="Times New Roman"/>
              </a:rPr>
              <a:t>MODELO MONOPOLICO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63600" y="1676520"/>
                <a:ext cx="7920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DT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gres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to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473040" y="2743200"/>
                <a:ext cx="7920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DU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gres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menos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pi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mobilizad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560520" y="4502160"/>
                <a:ext cx="77659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CV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gres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men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pi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mobilizad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57" name=""/>
          <p:cNvGrpSpPr/>
          <p:nvPr/>
        </p:nvGrpSpPr>
        <p:grpSpPr>
          <a:xfrm>
            <a:off x="2057400" y="3809880"/>
            <a:ext cx="4800600" cy="685800"/>
            <a:chOff x="2057400" y="3809880"/>
            <a:chExt cx="4800600" cy="685800"/>
          </a:xfrm>
        </p:grpSpPr>
        <mc:AlternateContent>
          <mc:Choice xmlns:a14="http://schemas.microsoft.com/office/drawing/2010/main" Requires="a14">
            <p:sp>
              <p:nvSpPr>
                <p:cNvPr id="1858" name=""/>
                <p:cNvSpPr txBox="1"/>
                <p:nvPr/>
              </p:nvSpPr>
              <p:spPr>
                <a:xfrm>
                  <a:off x="2208240" y="3886200"/>
                  <a:ext cx="44211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</m:d>
                      <m:r>
                        <m:t xml:space="preserve"> </m:t>
                      </m:r>
                      <m:sSubSup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sub>
                        <m:sup>
                          <m:r>
                            <m:t xml:space="preserve">S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59" name=""/>
            <p:cNvSpPr/>
            <p:nvPr/>
          </p:nvSpPr>
          <p:spPr>
            <a:xfrm>
              <a:off x="2057400" y="3809880"/>
              <a:ext cx="480060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1219320" y="5715000"/>
            <a:ext cx="6172200" cy="609480"/>
            <a:chOff x="1219320" y="5715000"/>
            <a:chExt cx="6172200" cy="609480"/>
          </a:xfrm>
        </p:grpSpPr>
        <mc:AlternateContent>
          <mc:Choice xmlns:a14="http://schemas.microsoft.com/office/drawing/2010/main" Requires="a14">
            <p:sp>
              <p:nvSpPr>
                <p:cNvPr id="1861" name=""/>
                <p:cNvSpPr txBox="1"/>
                <p:nvPr/>
              </p:nvSpPr>
              <p:spPr>
                <a:xfrm>
                  <a:off x="1523880" y="5791320"/>
                  <a:ext cx="568800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ki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ki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S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ki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62" name=""/>
            <p:cNvSpPr/>
            <p:nvPr/>
          </p:nvSpPr>
          <p:spPr>
            <a:xfrm>
              <a:off x="1219320" y="5715000"/>
              <a:ext cx="6172200" cy="609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361-0A6A-407F-9C70-A36E5F14928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380880" y="457200"/>
            <a:ext cx="815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Comportamiento monopólico</a:t>
            </a: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:  agente anticipa precio dispuesto a pagar por la demanda</a:t>
            </a:r>
            <a:r>
              <a:rPr b="0" lang="es-ES_tradnl" sz="2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1981080" y="1676520"/>
                <a:ext cx="3903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5" name=""/>
          <p:cNvSpPr/>
          <p:nvPr/>
        </p:nvSpPr>
        <p:spPr>
          <a:xfrm>
            <a:off x="457200" y="2895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9880" indent="-3809880"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Reemplazando en problema de Max. pro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1371600" y="3505320"/>
                <a:ext cx="220680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3581280" y="33526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62520" y="39625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nta monopólica se transmite al dueño de la tier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067-2BED-485E-90B1-30E68B353C3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6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BE5-AFD2-4D7C-9BCD-399678E3E2D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5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O.K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Tenemos piezas y partes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cómo se junta todo esto ahora?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D35-66A7-48F5-A6E6-69B1699B7235}" type="slidenum">
              <a:t>85</a:t>
            </a:fld>
          </a:p>
        </p:txBody>
      </p:sp>
    </p:spTree>
  </p:cSld>
  <p:transition spd="med" advTm="16000"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PROBLEMA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redecir localización y rentas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Mercado del suelo: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competitivo y especulativ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gentes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hogares y firm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h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racionales, diversos gustos, compiten suelo, esternal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spacio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zon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i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heterogéneo en atributos</a:t>
            </a:r>
            <a:r>
              <a:rPr b="1" lang="es-CL" sz="2400" spc="-1" strike="noStrike">
                <a:solidFill>
                  <a:srgbClr val="8cf4ea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imitado y regul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dustria inmobiliaria: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diversas viviendas, maximizadoresde ganancia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</a:t>
            </a:r>
            <a:r>
              <a:rPr b="1" i="1" lang="es-CL" sz="32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55E-C33B-4D81-ADBE-3B932377F03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936800" y="609120"/>
            <a:ext cx="695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xógen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1461600" y="2362320"/>
            <a:ext cx="748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recimiento: N° hogares y firmas (H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Sistema de transporte (acc, at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gulaciones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centivos de localiz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D44-8E2D-4E4E-B10C-AC49A3D4101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861920" y="609120"/>
            <a:ext cx="703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ndógen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1386000" y="198108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Uso del suelo (S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, q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(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nta (r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Decisiones de los ag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xcedentes o Nivel de v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E90-7A7C-4F4C-BDD4-730E282532E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remat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ostur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1600200" y="2514600"/>
                <a:ext cx="708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6" name=""/>
          <p:cNvSpPr/>
          <p:nvPr/>
        </p:nvSpPr>
        <p:spPr>
          <a:xfrm>
            <a:off x="1542600" y="3905280"/>
            <a:ext cx="34534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ostura          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, w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ingreso hogar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Z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de la 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arámetros de g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1411200" y="3200400"/>
                <a:ext cx="738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294-CCEB-4034-B6E7-B2C8F0DD4A2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9A3-E7DE-4B48-A905-BCC660649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probabilidad que agente tipo h sea mejor postor en 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762120" y="3200400"/>
                <a:ext cx="83055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1" name=""/>
          <p:cNvSpPr/>
          <p:nvPr/>
        </p:nvSpPr>
        <p:spPr>
          <a:xfrm>
            <a:off x="2189520" y="4917960"/>
            <a:ext cx="590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ocalizados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Oferta de vievienda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en grupo categoría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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robabilidad de que h haga posturas en v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EB9-CCFB-4A9D-A3B2-A51085FBCE2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785600" y="609120"/>
            <a:ext cx="711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renta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a renta es la máxima postura espe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990720" y="5029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279440" y="5105520"/>
            <a:ext cx="72550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vi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arte de la renta con valor común a todo postor      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(valor de referenc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372960" y="2971800"/>
                <a:ext cx="8694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F74-DFB3-4E12-A285-95137076A9D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95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1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157040" y="19807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 Todo agente se locali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9" name=""/>
              <p:cNvSpPr txBox="1"/>
              <p:nvPr/>
            </p:nvSpPr>
            <p:spPr>
              <a:xfrm>
                <a:off x="1752480" y="2895480"/>
                <a:ext cx="5334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0" name=""/>
          <p:cNvSpPr/>
          <p:nvPr/>
        </p:nvSpPr>
        <p:spPr>
          <a:xfrm>
            <a:off x="1513080" y="4632480"/>
            <a:ext cx="653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v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N° de viviendas disponibles tipo v en zon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   Corte temporal de pred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N° de agentes tipo h (exóge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33D-F6BB-496B-9570-41763B3D568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9595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2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79400" y="3075120"/>
                <a:ext cx="795348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m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vi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903" name=""/>
          <p:cNvSpPr/>
          <p:nvPr/>
        </p:nvSpPr>
        <p:spPr>
          <a:xfrm>
            <a:off x="1506600" y="5043600"/>
            <a:ext cx="5891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Oferta de máxima ganancia en zon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Symbol"/>
                <a:ea typeface="Symbol"/>
              </a:rPr>
              <a:t>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función de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alras: Oferta igual dema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096-C45D-4E43-97EA-2E21DD26FF5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959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3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2004840" y="3235320"/>
                <a:ext cx="4819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7" name=""/>
          <p:cNvSpPr/>
          <p:nvPr/>
        </p:nvSpPr>
        <p:spPr>
          <a:xfrm>
            <a:off x="1514520" y="5089680"/>
            <a:ext cx="6379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Área de terreno en tipo de vivienda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Área disponible para localización en zon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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Tipos de viviendas aceptables en zon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 de suelo: Oferta de suelo inelás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945-7A53-4C83-9706-7B4348D1236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12193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1430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Arial"/>
              </a:rPr>
              <a:t>Externalidades de localización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la localización afecta la localización a través de los atributos zonales (variables endógen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1066680" y="4495680"/>
                <a:ext cx="60120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824040" y="3048120"/>
                <a:ext cx="7635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3" name=""/>
          <p:cNvSpPr/>
          <p:nvPr/>
        </p:nvSpPr>
        <p:spPr>
          <a:xfrm>
            <a:off x="2135160" y="6172200"/>
            <a:ext cx="4664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localización :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=f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010280" y="3809880"/>
            <a:ext cx="1828800" cy="838440"/>
          </a:xfrm>
          <a:prstGeom prst="wedgeRectCallout">
            <a:avLst>
              <a:gd name="adj1" fmla="val -156250"/>
              <a:gd name="adj2" fmla="val -7537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riables  u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l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E79-9529-4E95-816F-CACABB5C7D1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1828800" y="1760400"/>
                <a:ext cx="70707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1917720" y="3513240"/>
                <a:ext cx="7226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981080" y="4495680"/>
                <a:ext cx="3633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9" name=""/>
          <p:cNvSpPr/>
          <p:nvPr/>
        </p:nvSpPr>
        <p:spPr>
          <a:xfrm>
            <a:off x="1523880" y="302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279080" y="2117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279080" y="36417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279080" y="45561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78240" y="517680"/>
            <a:ext cx="6201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Problema de optimizació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1981080" y="5486400"/>
                <a:ext cx="31845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1279080" y="5546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F7E-DC71-460E-9830-58CEB2A6AAF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7" name=""/>
              <p:cNvSpPr txBox="1"/>
              <p:nvPr/>
            </p:nvSpPr>
            <p:spPr>
              <a:xfrm>
                <a:off x="1025640" y="4183200"/>
                <a:ext cx="78548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bSup>
                      <m:e/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8" name=""/>
          <p:cNvSpPr/>
          <p:nvPr/>
        </p:nvSpPr>
        <p:spPr>
          <a:xfrm>
            <a:off x="1978920" y="6156360"/>
            <a:ext cx="4254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9" name=""/>
              <p:cNvSpPr txBox="1"/>
              <p:nvPr/>
            </p:nvSpPr>
            <p:spPr>
              <a:xfrm>
                <a:off x="2133720" y="198108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9D4-7FD4-485F-B8D0-73D30F16099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3285720" y="5165640"/>
            <a:ext cx="2742120" cy="85572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P, B</a:t>
            </a:r>
            <a:r>
              <a:rPr b="1" i="1" lang="es-CL" sz="20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)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rob. opt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019920" y="556272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238880" y="2057040"/>
            <a:ext cx="0" cy="3505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A4F-0866-49E6-8A86-7069F36ADA3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D5D-3F8A-4D49-AD2A-F8076063FF8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Sec. Transporte</cp:lastModifiedBy>
  <dcterms:modified xsi:type="dcterms:W3CDTF">2001-08-02T14:51:31Z</dcterms:modified>
  <cp:revision>67</cp:revision>
  <dc:subject/>
  <dc:title>General</dc:title>
</cp:coreProperties>
</file>